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113-E5F6-4D1C-B92C-85ECD5055F8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5F1-614F-436C-A1A8-DEEB06805C43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B3AC-16FC-4C27-8001-B6664FF9CE8C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1E2D-9566-41EB-BFA3-35B2980A6199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159-E208-45FC-A728-5608E3C6646B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3C67-DCDF-4563-B397-8B5D9F73FCA8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65A4-3005-4089-9A8D-59768B8D18FC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F09F-2920-4F7A-A998-ADD63782D20E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6C6-6218-4C0B-B00D-2AC02C30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0B8-11FA-44D6-A2CD-D17D0A3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3115B-7ED9-443D-AE6F-E9331820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11680-A3FE-4701-9207-CE24D72B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129C3-7D7B-4A05-A275-58E80F21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5CB74-A258-4CC8-B1DA-13A2F41C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8EFAF-FFCE-4710-BF46-3C41CB4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1C139-9844-4472-AD2F-513193F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93AFD-CFE9-4ED2-ABFC-30614547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00981-0621-4BA7-BA8F-CCB72A56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068AD-A6CD-462F-8CB9-BE122864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EAE07-AFB9-4E3F-8062-43A699CA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F34-BFBF-4DC3-B37D-BF0A8268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34E2E-E39D-44C9-91B4-CCA82F7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AD885-5CD6-4928-91F5-A61B0747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DE030-013F-4917-AB82-BF583D59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B2594-D715-41A7-85C3-8065AE80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83F26-74F2-471A-9E3C-EADABDE0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11CCF-1133-4DC4-BC1D-27CE2EA7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FF0B6-B1E6-4591-8BBE-E689229E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EBAEB-8B29-47EE-BAB4-A47689A9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AD8C5-E851-4270-8AB5-C4CB37C9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4700F-523C-4ADD-8842-0EA187BC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BC3-4104-47D2-B1F9-4F73E257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BC447-B67B-43BC-8460-D761C0FD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73896-E4E2-48BB-B24D-711CEC82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44CD0-0EE5-460C-B999-DCD6147E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04C0E-65CA-471F-BBF6-0BE3C82E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63592-FB26-48AC-9C98-2415BEA1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DBFFD-E376-432C-BE1D-F48293A7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F81A6-08EF-44E0-B416-25EBBCB4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3E1E4-FB97-48FD-BF5A-3117A592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4BFE5-0266-4708-BC00-A1AB2AA6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18BEC-4C78-4C2F-9A81-D5E8547D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FFCA-F951-4949-82AA-AFE23B39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8882C-403B-4649-A0C5-E177C7C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56458-A78C-4ACA-82CD-C72734BA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4305A-1CC5-4C15-81D1-C282F513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B06C6-BED4-420F-AE42-4AAD9800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8309B-BA16-40AB-9565-BE0A97A6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4254B-D8A7-44F0-988B-EB6B0F68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0703A-7915-4DEC-B0B7-9D436450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A9BFA-BD2B-44C1-B953-E38F8AA7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9A7A6-ED24-47E0-9F46-092586F0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00052-8F4B-40AA-9C29-B81C6FE2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9E3E-0BE5-4B24-8827-FB28492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35224-1B76-4746-BFF0-5B99FF3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B0E62-3F5B-4D77-9F32-3BB35B06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924A5-60ED-461E-AA6D-2443C862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8198C-5874-4646-848A-99C56C8E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BF242-B870-4C62-B84E-BDF257D3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C49F-2E6A-41A4-A22A-8F25942F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F013-A97F-43EF-9619-88019103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7C8B-BE59-4FF9-BB27-6717719C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B01F-FDA9-487A-A3DD-B99C9A01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828B-482A-40ED-BBAF-7C743C66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0D7-226B-43B9-A36C-054A639D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8B59-099E-4CC6-A9DC-D4E619D4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8F55-B99F-49DB-A7FA-0C97DDA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9376-4B8D-4612-AE6D-65927936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C0E1-A7D8-4828-BCF1-504A93DC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D1DB-47B5-49ED-915A-566AF84C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6EF2-CAA3-4266-A33E-851053A6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F6AB-DA36-486A-9477-822F4713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F267-F7AA-4277-91ED-4CD2BDD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3D9F-0107-4DD3-A17F-71ECB8AA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1D7B-805D-4EF1-AC68-9BD3BACC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879-F66A-4BFF-8449-90573E2C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CD5D-CEEE-43A1-9FEC-C44C62E2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D5C4-7E8D-4C08-8990-D55EDD66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25A0-965B-4897-98F4-F02CDC3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E827-78C3-4151-B5A8-9EEE46E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667D6-09A9-410C-A4D2-765CD0D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65DF-28CB-4260-A1A1-978B4D08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C6DC-C018-4F6A-A973-0D4BA8E4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A122-7840-425C-A9DE-CA14DAE5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8D0B-9A9B-4488-8635-865804D5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1D3E-5B64-466A-9C24-6FC03FB2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777-EA6B-4B87-B8B6-1F5E4B54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B7F02-F3B8-437B-A717-FCE4B58A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E8864-8660-4C43-A328-7D297FA2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D75F-52F6-4F47-A99E-F503CC3A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1DDF-E7FE-43CA-9F98-0893B43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94C9-1D56-46A4-AB0B-291F22E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8E67-772E-46B0-B852-339F8A2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1BFB-C4A1-4AD6-A96F-F864DB7D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A0398-A3A5-4E32-B0BA-5D67410D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D044D-41DD-4A58-A227-84E355FF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CE536-69B5-46DE-A848-7C6A55B5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2A0-AE4E-4F55-B85B-EAD7E262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135E-F9B8-46B7-943E-FE78456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403B-D418-463E-B062-18B8D53A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6582-D383-467B-9A19-3A63A346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B3EF2-8087-441C-B88D-8A591FE2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7998-FD68-4D9B-8E1D-B1EA9611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B67F4-DD21-4AC1-AE06-E0E53549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09185-0B32-46E5-AF5E-E4E006DF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7F97-C667-419B-B845-A7541011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28FFC-A8E3-43CE-AED6-B41F3DBC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6F9C8-6D7B-400A-B00D-3C9F6894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8EA-0B19-49F5-9A96-FF42C1B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81C2C-E1CD-4A87-9E09-FCCC4373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46E2A-54EB-4F16-9C6A-C172DFFC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0673-491D-495F-ABB1-25CBC7C2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19730-AAE6-4232-86B0-66AFEE3D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AA7E7-D2E8-44DA-9ACA-A864488E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E52B3-32A3-455F-A8A4-7CAB71A8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8AE3-08C7-45B8-9346-A436B027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4D058-B170-4B67-B1F7-640450D9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FD33-484D-436B-8BAB-ADB3FA5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2DBEE-8383-4C4E-B393-DCB7D34B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009-724C-475E-8B38-7232D30F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B3B68-4563-4E38-A415-784826E0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5110-8EAD-45A6-9BD3-E3629BD7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072FB-1680-4E2E-9BA5-5A335BB0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B200-454E-48C8-B140-8CA2D0BF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79401-E67E-45AF-B312-16E10723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006B-B03E-4387-8975-C9B7255A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32E9-51B6-41C1-A25E-6E168146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95D0F-D43B-4E38-BB7B-109FF744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F285-51B6-4857-95BF-DB988671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44B26-3957-448D-8CA2-20B388A2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2BB-1347-4B4E-BE4E-18E2F973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FC641-DB16-456A-A16A-D9A63E31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A1607-5013-42A9-B67E-1723E7F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5490-DEAC-49B0-96CD-87BD2AA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1D2FE-C0FD-4151-98EF-BCF5E9A5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014A-DB58-4759-B828-5BDCCF34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14428-E364-4A5B-BE79-DD95D719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D3BBF-FB72-435B-B440-B0E61E83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5D896-E3B5-43DD-B284-696817BF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6BF59-970B-4AD9-9A25-8B5DE01B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E680A-06B3-404D-A386-B0DE0012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066-C831-4BF6-A301-54FFE793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7BE58-A31E-4441-A9CE-EA798925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95BD-9259-4817-BC0C-4AC4A6B3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9041A-CFB8-468D-8CCC-FB481951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AB184-D56A-47BC-9A9D-B12D75D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49C24-527F-4F2C-B2C9-CEE4372F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20EBF-D8EC-4F41-B4F9-B97D90B2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3BA5F-AB25-4E16-9B18-90538565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1F9FE-5869-4F51-B557-658BB3D8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CA6F3-BFD2-4420-BE22-B33591A1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804C6-D54F-406D-9860-18D10E27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B0C7-9E12-4E9C-AD2D-1A2EBAAC4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3B09-1E30-4480-A4E9-879E3A3CE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6388-6A5C-4D85-A118-BB139D162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4006-2EED-4079-A714-8078F46C9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1E88-F961-46A7-9F6E-F403886F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2A41-68C6-443F-A7CF-86A6CDBF5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9B6D-419E-4099-9696-9BA4AFCEC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C657-AD8A-49DE-9D58-F0BC9A4EB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2196-5680-40FD-8FA3-0178A803F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7A4F-C6A5-440C-80FF-182D95AEA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2992-3AB7-4D32-AADF-AC0CB03FD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84CE-920A-4CE6-8B3D-2730DCF4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führu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1" name="Grafik 4" descr="OEVSV-WMF.wmf"/>
          <p:cNvPicPr/>
          <p:nvPr/>
        </p:nvPicPr>
        <p:blipFill>
          <a:blip r:embed="rId1"/>
          <a:stretch/>
        </p:blipFill>
        <p:spPr>
          <a:xfrm>
            <a:off x="357120" y="3500280"/>
            <a:ext cx="1082880" cy="2448000"/>
          </a:xfrm>
          <a:prstGeom prst="rect">
            <a:avLst/>
          </a:prstGeom>
          <a:ln w="0">
            <a:noFill/>
          </a:ln>
        </p:spPr>
      </p:pic>
      <p:pic>
        <p:nvPicPr>
          <p:cNvPr id="502" name="Grafik 5" descr="ARENA-WMF.wmf"/>
          <p:cNvPicPr/>
          <p:nvPr/>
        </p:nvPicPr>
        <p:blipFill>
          <a:blip r:embed="rId2"/>
          <a:stretch/>
        </p:blipFill>
        <p:spPr>
          <a:xfrm>
            <a:off x="7715160" y="3643200"/>
            <a:ext cx="97632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as ist Airmail 2000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Datentransferprogramm  für  den (Amateur) Fu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Terminal Programm  (KB zu KB und KB zu BB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autonomes  E-Mail Progra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Host-Interface zu Outlook (Expr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Programm für Airmail zu Airmail Kommunik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 Client Programm für Winlink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irmail2000 ist eine Nachrichtendrehscheib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chteck 1"/>
          <p:cNvSpPr/>
          <p:nvPr/>
        </p:nvSpPr>
        <p:spPr>
          <a:xfrm>
            <a:off x="3786120" y="3365640"/>
            <a:ext cx="1629000" cy="16300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8edf2"/>
                </a:solidFill>
                <a:latin typeface="Arial"/>
                <a:ea typeface="Arial"/>
              </a:rPr>
              <a:t>AIRMA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8edf2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8edf2"/>
                </a:solidFill>
                <a:latin typeface="Arial"/>
                <a:ea typeface="Arial"/>
              </a:rPr>
              <a:t>Modu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Abgerundetes Rechteck 2"/>
          <p:cNvSpPr/>
          <p:nvPr/>
        </p:nvSpPr>
        <p:spPr>
          <a:xfrm>
            <a:off x="3929040" y="1722600"/>
            <a:ext cx="13431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HF-TERMI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P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Winl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HAM, Notf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Abgerundetes Rechteck 3"/>
          <p:cNvSpPr/>
          <p:nvPr/>
        </p:nvSpPr>
        <p:spPr>
          <a:xfrm>
            <a:off x="3929040" y="5724360"/>
            <a:ext cx="13431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WEFA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GETFA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Abgerundetes Rechteck 4"/>
          <p:cNvSpPr/>
          <p:nvPr/>
        </p:nvSpPr>
        <p:spPr>
          <a:xfrm>
            <a:off x="6600960" y="3722760"/>
            <a:ext cx="141444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MAIL CLI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Internet E-Mail  via IS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Abgerundetes Rechteck 5"/>
          <p:cNvSpPr/>
          <p:nvPr/>
        </p:nvSpPr>
        <p:spPr>
          <a:xfrm>
            <a:off x="1314360" y="3722760"/>
            <a:ext cx="142884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PROPA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ITS-H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Abgerundetes Rechteck 6"/>
          <p:cNvSpPr/>
          <p:nvPr/>
        </p:nvSpPr>
        <p:spPr>
          <a:xfrm>
            <a:off x="5958000" y="2222640"/>
            <a:ext cx="1342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INTERNET ACCES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inlink via Telne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Abgerundetes Rechteck 7"/>
          <p:cNvSpPr/>
          <p:nvPr/>
        </p:nvSpPr>
        <p:spPr>
          <a:xfrm>
            <a:off x="1886040" y="2222640"/>
            <a:ext cx="1342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PACK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Client &amp; Server TelPac Winl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bgerundetes Rechteck 8"/>
          <p:cNvSpPr/>
          <p:nvPr/>
        </p:nvSpPr>
        <p:spPr>
          <a:xfrm>
            <a:off x="1886040" y="5224320"/>
            <a:ext cx="1342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POSITION-REPOR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Wetterberich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  <a:ea typeface="Arial"/>
              </a:rPr>
              <a:t>Bulleti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Abgerundetes Rechteck 9"/>
          <p:cNvSpPr/>
          <p:nvPr/>
        </p:nvSpPr>
        <p:spPr>
          <a:xfrm>
            <a:off x="6029280" y="5224320"/>
            <a:ext cx="13431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MAIL SER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SMTP/POP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LAN WL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Outloo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feld 11"/>
          <p:cNvSpPr/>
          <p:nvPr/>
        </p:nvSpPr>
        <p:spPr>
          <a:xfrm>
            <a:off x="8184240" y="642924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© OE3Z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Textfeld 13"/>
          <p:cNvSpPr/>
          <p:nvPr/>
        </p:nvSpPr>
        <p:spPr>
          <a:xfrm>
            <a:off x="3071880" y="428760"/>
            <a:ext cx="329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Die Voraussetzungen für Airmail sind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n95, 98, ME, NT4.0, Win-2000, Win-XP, VIST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ür HF &amp; VHF ein Pactor/Packet Modem (TNC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z.B.: SCS PTC-II, IIe, IIusb, IIex, IInet, IIpro oder TRXPT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ür VHF/UHF Packet Z.B.: KPC3, KPC3+, Kam98, Kam+, PK232,PK900,DSP232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und Karten und AGWPE wird dzt. nicht direkt unterstützt - es gibt aber eine Lösung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irmail to AGW packet engine link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ttp://www.qsl.net/mararc/ampe.ht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mail darf  von Funkamateuren auf den Amateurfrequenze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ostenlo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wendet werde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mail wird auch von kommerziellen Diensten wie, z.B. Sailmail, Bushmail etc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ostenpflichti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ütz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Mail  Copyright ©1997-2007 by Jim Corenman, KE6RK, and Sirius Cybernetics LLC, P.O. Box 2143, Friday Harbor, WA 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Programm ist USB-Stick portab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:  http://www.airmail2000.c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42960" y="17859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ine deutsche Installations- und Bedienungsanleitung findet man im Web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www.oe3.oevsv.at/opencms/notfunk/Download/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irmail wird für den Notfunk allmählich d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acLinkMP abgelös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irmail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23" name="Picture 8" descr="nochFragen"/>
          <p:cNvPicPr/>
          <p:nvPr/>
        </p:nvPicPr>
        <p:blipFill>
          <a:blip r:embed="rId1"/>
          <a:stretch/>
        </p:blipFill>
        <p:spPr>
          <a:xfrm>
            <a:off x="2428920" y="1785960"/>
            <a:ext cx="4106880" cy="40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4" name="Textfeld 4"/>
          <p:cNvSpPr/>
          <p:nvPr/>
        </p:nvSpPr>
        <p:spPr>
          <a:xfrm>
            <a:off x="6250320" y="61437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....und nun zur Prax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3:02:07Z</dcterms:created>
  <dc:creator>Gerhard Kmet</dc:creator>
  <dc:description/>
  <dc:language>en-US</dc:language>
  <cp:lastModifiedBy>Gerhard Kmet</cp:lastModifiedBy>
  <dcterms:modified xsi:type="dcterms:W3CDTF">2008-04-15T10:08:29Z</dcterms:modified>
  <cp:revision>43</cp:revision>
  <dc:subject/>
  <dc:title>Airmail2000 </dc:title>
</cp:coreProperties>
</file>